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CE0-3FA7-4ED7-9F18-7A8A505C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5C2-ED5C-41A0-8CE5-CFF9EBEA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1DB-5B20-4AD8-8AA2-660FC27C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D62-0941-482F-9F77-31F8B414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8BF-CFF2-4603-AB2C-1A33B832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4937-4E59-41F0-BB92-C9292337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9B7-2C84-4D02-A786-D2BAD596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7DB-D80C-475D-96B9-B7379849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0211-08DF-4506-869F-507D24E1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A37-69D1-4494-A39F-14D39287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96A-7149-4598-B7E7-4787550C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FC2-3DBC-403A-9791-8A9C44F7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3200-02A8-49DA-A7EE-3C6F8DE5C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ngravers MT"/>
              </a:rPr>
              <a:t>Here Lies ebenezer scro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ngravers MT"/>
              </a:rPr>
              <a:t>For most of his lif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ngravers MT"/>
              </a:rPr>
              <a:t>He was a mis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ngravers MT"/>
              </a:rPr>
              <a:t>He had no wif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ngravers MT"/>
              </a:rPr>
              <a:t>But he still was an early ris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255280" y="2821680"/>
            <a:ext cx="3967200" cy="304812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 LIES EBENEZER SCRO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 a very long 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was as sour as a l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after the visi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no longer needed the spir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WA</cp:lastModifiedBy>
  <dcterms:modified xsi:type="dcterms:W3CDTF">2009-12-08T20:20:02Z</dcterms:modified>
  <cp:revision>11</cp:revision>
  <dc:subject/>
  <dc:title>Slide 1</dc:title>
</cp:coreProperties>
</file>